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.pct" ContentType="image/x-pict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5EEE-0230-41CA-9ED4-6B5C75462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1ECF-0C10-4F0E-9089-605BEA1E8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0588-27FF-4EE2-8CDA-6DAFD67F0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B20E-9EF3-4393-B64F-0CC9BC466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8657-3BE3-4683-96A3-9B631F6F5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1342-971C-4BE6-9ADC-25C63223C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88F4-AE26-4D25-B422-E081A1FF1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75BE-F9DD-4F13-81B6-2081383E7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9D91-5CA1-46BD-BCC4-FEAD05E83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5B7C-5892-40AC-8C8B-E8A64EC84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1D5F-8CEC-472C-B604-0ACB0933C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750E-DBAA-4D2B-8FDA-05ED76FB4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7D6D-0D48-4700-B0ED-73DD2051E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7118-5E93-4EDC-9C3B-03868E673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A166-E222-4B0B-90AB-06F80C73B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8F2-CEC5-4DFB-BB99-1F805FCA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6DB-487F-4212-9606-B3BE91E7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265-1EDE-4694-A8F7-96EE3E5D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B15-AB8B-4024-A200-80980129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E87D-3DDE-4316-B448-7C4284C1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0ED-1A01-4648-BEC3-F1FE5DB3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53F-9CEA-41BF-8F8F-9BBB9FAC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832-1312-4FB4-ABBB-56BD92D7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626-E2F9-4FA3-AEDB-C6AF0C89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A8A4-EE27-4D03-8C2B-80B4ECCB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54B-BA38-4166-AA09-1CA89736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778-A607-431D-A0B8-5789F6CA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6A06-B1C5-44C1-B224-DB1B404C6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ii.org/" TargetMode="External"/><Relationship Id="rId2" Type="http://schemas.openxmlformats.org/officeDocument/2006/relationships/hyperlink" Target="http://www.lii.org/" TargetMode="External"/><Relationship Id="rId3" Type="http://schemas.openxmlformats.org/officeDocument/2006/relationships/hyperlink" Target="http://www.lii.org/" TargetMode="External"/><Relationship Id="rId4" Type="http://schemas.openxmlformats.org/officeDocument/2006/relationships/hyperlink" Target="http://infomine.ucr.edu/" TargetMode="External"/><Relationship Id="rId5" Type="http://schemas.openxmlformats.org/officeDocument/2006/relationships/hyperlink" Target="http://infomine.ucr.edu/" TargetMode="External"/><Relationship Id="rId6" Type="http://schemas.openxmlformats.org/officeDocument/2006/relationships/hyperlink" Target="http://infomine.ucr.edu/" TargetMode="External"/><Relationship Id="rId7" Type="http://schemas.openxmlformats.org/officeDocument/2006/relationships/hyperlink" Target="http://infomine.ucr.edu/" TargetMode="External"/><Relationship Id="rId8" Type="http://schemas.openxmlformats.org/officeDocument/2006/relationships/hyperlink" Target="http://infomine.ucr.edu/" TargetMode="External"/><Relationship Id="rId9" Type="http://schemas.openxmlformats.org/officeDocument/2006/relationships/hyperlink" Target="http://infomine.ucr.edu/" TargetMode="External"/><Relationship Id="rId10" Type="http://schemas.openxmlformats.org/officeDocument/2006/relationships/hyperlink" Target="http://www.about.com/" TargetMode="External"/><Relationship Id="rId11" Type="http://schemas.openxmlformats.org/officeDocument/2006/relationships/hyperlink" Target="http://school.nettrekker.com/frontdoor" TargetMode="External"/><Relationship Id="rId12" Type="http://schemas.openxmlformats.org/officeDocument/2006/relationships/hyperlink" Target="http://school.nettrekker.com/frontdoor" TargetMode="External"/><Relationship Id="rId13" Type="http://schemas.openxmlformats.org/officeDocument/2006/relationships/hyperlink" Target="http://school.nettrekker.com/frontdoor" TargetMode="External"/><Relationship Id="rId14" Type="http://schemas.openxmlformats.org/officeDocument/2006/relationships/hyperlink" Target="http://school.nettrekker.com/frontdoor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our Search Too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7C34-7D4E-4B9F-8F61-27834ADF0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MCj03499560000[1]"/>
          <p:cNvPicPr/>
          <p:nvPr/>
        </p:nvPicPr>
        <p:blipFill>
          <a:blip r:embed="rId1"/>
          <a:stretch/>
        </p:blipFill>
        <p:spPr>
          <a:xfrm>
            <a:off x="2951280" y="1952640"/>
            <a:ext cx="2550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ject Directori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09680" y="1603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websites and web pages by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web con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more focused searches than search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arched by “drilling down” through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searched by keyword, subject, Boolean search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AC75-88FE-4475-A542-9A78255BC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excellent subject directori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ian’s Internet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i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/infomin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ucr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d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about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Trek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school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nettrekker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com/front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49CA-A222-40E2-9BBB-012F31506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ub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rectori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need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uthorit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need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accur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need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need to narrow your top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do not have specific search terms (keywords, subject terms, names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you want the smallest number of sourc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BD8D-2A22-46EF-A948-B5AAE53E3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ヒラギノ角ゴ ProN W3"/>
              </a:rPr>
              <a:t>_x0016_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tTrekk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need resources aimed at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need to search the Net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need differentiated resources (elementary, MS, HS, ES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need to tailor resources to your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76360" y="836640"/>
            <a:ext cx="7924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Mon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http://news.nationalgeographic.com/news/2007/11/photogalleries/wip-week56/images/primary/1_461.jpg"/>
          <p:cNvPicPr/>
          <p:nvPr/>
        </p:nvPicPr>
        <p:blipFill>
          <a:blip r:embed="rId2"/>
          <a:stretch/>
        </p:blipFill>
        <p:spPr>
          <a:xfrm>
            <a:off x="1800360" y="1808280"/>
            <a:ext cx="5484600" cy="3830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Tool Would You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0A02-8C5D-4366-BC34-34BBDF72A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2"/>
          <p:cNvGrpSpPr/>
          <p:nvPr/>
        </p:nvGrpSpPr>
        <p:grpSpPr>
          <a:xfrm>
            <a:off x="4024440" y="2462040"/>
            <a:ext cx="1636200" cy="2893680"/>
            <a:chOff x="4024440" y="2462040"/>
            <a:chExt cx="1636200" cy="2893680"/>
          </a:xfrm>
        </p:grpSpPr>
        <p:sp>
          <p:nvSpPr>
            <p:cNvPr id="55" name="AutoShape 11"/>
            <p:cNvSpPr/>
            <p:nvPr/>
          </p:nvSpPr>
          <p:spPr>
            <a:xfrm>
              <a:off x="4024440" y="2462040"/>
              <a:ext cx="1636200" cy="28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5630040" y="2592720"/>
              <a:ext cx="30600" cy="261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4038120" y="2588040"/>
              <a:ext cx="161748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5"/>
            <p:cNvSpPr/>
            <p:nvPr/>
          </p:nvSpPr>
          <p:spPr>
            <a:xfrm>
              <a:off x="4041000" y="2597760"/>
              <a:ext cx="1602720" cy="2626920"/>
            </a:xfrm>
            <a:prstGeom prst="rect">
              <a:avLst/>
            </a:prstGeom>
            <a:solidFill>
              <a:srgbClr val="60a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6"/>
            <p:cNvSpPr/>
            <p:nvPr/>
          </p:nvSpPr>
          <p:spPr>
            <a:xfrm>
              <a:off x="5630040" y="2592720"/>
              <a:ext cx="30600" cy="261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4041000" y="2597760"/>
              <a:ext cx="911880" cy="2626920"/>
            </a:xfrm>
            <a:prstGeom prst="rect">
              <a:avLst/>
            </a:prstGeom>
            <a:solidFill>
              <a:srgbClr val="002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4038120" y="2588040"/>
              <a:ext cx="161748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4024440" y="2592720"/>
              <a:ext cx="30600" cy="261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4038120" y="5203440"/>
              <a:ext cx="1617480" cy="4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4344840" y="2509920"/>
              <a:ext cx="1092240" cy="353880"/>
            </a:xfrm>
            <a:prstGeom prst="pie">
              <a:avLst/>
            </a:prstGeom>
            <a:solidFill>
              <a:srgbClr val="cc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4347000" y="2588040"/>
              <a:ext cx="1000080" cy="1299240"/>
            </a:xfrm>
            <a:prstGeom prst="pie">
              <a:avLst/>
            </a:prstGeom>
            <a:solidFill>
              <a:srgbClr val="ad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4337640" y="2642760"/>
              <a:ext cx="1049760" cy="128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4"/>
            <p:cNvSpPr/>
            <p:nvPr/>
          </p:nvSpPr>
          <p:spPr>
            <a:xfrm>
              <a:off x="4805280" y="2483280"/>
              <a:ext cx="653040" cy="31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5"/>
            <p:cNvSpPr/>
            <p:nvPr/>
          </p:nvSpPr>
          <p:spPr>
            <a:xfrm>
              <a:off x="4596120" y="2664000"/>
              <a:ext cx="206640" cy="21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6"/>
            <p:cNvSpPr/>
            <p:nvPr/>
          </p:nvSpPr>
          <p:spPr>
            <a:xfrm>
              <a:off x="5050440" y="2526480"/>
              <a:ext cx="12816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"/>
            <p:cNvSpPr/>
            <p:nvPr/>
          </p:nvSpPr>
          <p:spPr>
            <a:xfrm>
              <a:off x="4532040" y="3839760"/>
              <a:ext cx="565560" cy="1451160"/>
            </a:xfrm>
            <a:prstGeom prst="pie">
              <a:avLst/>
            </a:prstGeom>
            <a:solidFill>
              <a:srgbClr val="cc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"/>
            <p:cNvSpPr/>
            <p:nvPr/>
          </p:nvSpPr>
          <p:spPr>
            <a:xfrm>
              <a:off x="4518360" y="3825720"/>
              <a:ext cx="617040" cy="152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9"/>
            <p:cNvSpPr/>
            <p:nvPr/>
          </p:nvSpPr>
          <p:spPr>
            <a:xfrm>
              <a:off x="4663080" y="3939480"/>
              <a:ext cx="408240" cy="27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0"/>
            <p:cNvSpPr/>
            <p:nvPr/>
          </p:nvSpPr>
          <p:spPr>
            <a:xfrm>
              <a:off x="4575240" y="4046760"/>
              <a:ext cx="517320" cy="346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1"/>
            <p:cNvSpPr/>
            <p:nvPr/>
          </p:nvSpPr>
          <p:spPr>
            <a:xfrm>
              <a:off x="4658400" y="4284360"/>
              <a:ext cx="318240" cy="23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2"/>
            <p:cNvSpPr/>
            <p:nvPr/>
          </p:nvSpPr>
          <p:spPr>
            <a:xfrm>
              <a:off x="4537080" y="4455000"/>
              <a:ext cx="458280" cy="29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3"/>
            <p:cNvSpPr/>
            <p:nvPr/>
          </p:nvSpPr>
          <p:spPr>
            <a:xfrm>
              <a:off x="4644360" y="4709160"/>
              <a:ext cx="246600" cy="14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4593960" y="3887280"/>
              <a:ext cx="263160" cy="17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5"/>
            <p:cNvSpPr/>
            <p:nvPr/>
          </p:nvSpPr>
          <p:spPr>
            <a:xfrm>
              <a:off x="4605840" y="4868640"/>
              <a:ext cx="27288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6"/>
            <p:cNvSpPr/>
            <p:nvPr/>
          </p:nvSpPr>
          <p:spPr>
            <a:xfrm>
              <a:off x="4302360" y="2464560"/>
              <a:ext cx="800280" cy="28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wisely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Program Files\Microsoft Office\MEDIA\CAGCAT10\j0302827.jpg"/>
          <p:cNvPicPr/>
          <p:nvPr/>
        </p:nvPicPr>
        <p:blipFill>
          <a:blip r:embed="rId1"/>
          <a:stretch/>
        </p:blipFill>
        <p:spPr>
          <a:xfrm>
            <a:off x="1695600" y="1600200"/>
            <a:ext cx="1560240" cy="21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Sponge%20Pads%20-%20Cellulose%20Sponge"/>
          <p:cNvPicPr/>
          <p:nvPr/>
        </p:nvPicPr>
        <p:blipFill>
          <a:blip r:embed="rId2"/>
          <a:stretch/>
        </p:blipFill>
        <p:spPr>
          <a:xfrm>
            <a:off x="1380960" y="3938760"/>
            <a:ext cx="2190960" cy="2185920"/>
          </a:xfrm>
          <a:prstGeom prst="rect">
            <a:avLst/>
          </a:prstGeom>
          <a:ln w="0">
            <a:noFill/>
          </a:ln>
        </p:spPr>
      </p:pic>
      <p:sp>
        <p:nvSpPr>
          <p:cNvPr id="8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688D-93DC-48D9-964D-BE915447E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MPj03865140000[1]"/>
          <p:cNvPicPr/>
          <p:nvPr/>
        </p:nvPicPr>
        <p:blipFill>
          <a:blip r:embed="rId3"/>
          <a:stretch/>
        </p:blipFill>
        <p:spPr>
          <a:xfrm>
            <a:off x="5135400" y="1600200"/>
            <a:ext cx="306396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9" descr="MPj03869690000[1]"/>
          <p:cNvPicPr/>
          <p:nvPr/>
        </p:nvPicPr>
        <p:blipFill>
          <a:blip r:embed="rId4"/>
          <a:stretch/>
        </p:blipFill>
        <p:spPr>
          <a:xfrm>
            <a:off x="5886360" y="3938760"/>
            <a:ext cx="1560600" cy="2187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f you only use a hammer, everything is a nail…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0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the Right Tool for the J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our basic tools online for researching inform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upplies information in a different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has its 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has its 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tool does i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F4ED-BD58-45A2-B2AE-1F072CA2A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Cata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0153-119D-44F7-919D-953A466B2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ce upon a time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724360" y="76500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5111640" y="4437000"/>
            <a:ext cx="2917800" cy="218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2016000" y="2276640"/>
            <a:ext cx="2917800" cy="2187360"/>
          </a:xfrm>
          <a:prstGeom prst="rect">
            <a:avLst/>
          </a:prstGeom>
          <a:ln w="0">
            <a:noFill/>
          </a:ln>
        </p:spPr>
      </p:pic>
      <p:sp>
        <p:nvSpPr>
          <p:cNvPr id="102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11A6-65B7-4335-841C-B6A3BCCFB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on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monkey"/>
          <p:cNvPicPr/>
          <p:nvPr/>
        </p:nvPicPr>
        <p:blipFill>
          <a:blip r:embed="rId1"/>
          <a:stretch/>
        </p:blipFill>
        <p:spPr>
          <a:xfrm>
            <a:off x="1646280" y="1828800"/>
            <a:ext cx="5529240" cy="3814920"/>
          </a:xfrm>
          <a:prstGeom prst="rect">
            <a:avLst/>
          </a:prstGeom>
          <a:ln w="0">
            <a:noFill/>
          </a:ln>
        </p:spPr>
      </p:pic>
      <p:sp>
        <p:nvSpPr>
          <p:cNvPr id="10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E44C-AC8A-4AF6-A968-170417687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9:54:45Z</dcterms:created>
  <dc:creator>Administrator</dc:creator>
  <dc:description/>
  <dc:language>en-US</dc:language>
  <cp:lastModifiedBy>ASD Staff</cp:lastModifiedBy>
  <dcterms:modified xsi:type="dcterms:W3CDTF">2008-12-01T06:07:50Z</dcterms:modified>
  <cp:revision>21</cp:revision>
  <dc:subject/>
  <dc:title>Four Search Tools</dc:title>
</cp:coreProperties>
</file>